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596-D8D6-45EC-A36F-3076E33C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6ED-1049-46C3-AA41-475905DB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670-041B-44FA-803D-66D860FA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2D0-12EF-48B4-975E-99ED96EE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0FA-4021-4B3A-BB07-7687FD8E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C49-7008-475B-8E57-FD022529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1C4-C3F6-4A16-8649-5AC972BA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68F-5C5F-47AB-8828-AF781FAE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565-E598-44C6-A05B-52AE9F2C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26F-1A81-442A-BCD0-61323B2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FD7-7EBE-4AD1-AEF1-2A9A3A9B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112-C4D3-42A8-AE24-1211C627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4861-19FF-4109-BF86-3C3DF9255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ladeadores.com/" TargetMode="External"/><Relationship Id="rId2" Type="http://schemas.openxmlformats.org/officeDocument/2006/relationships/hyperlink" Target="http://www.juegos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wasthya.marcocarvalho.com/wp-content/2008/11/gladiator05040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 Luis y May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eg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son divertidos como los de los ro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s adultos les gustaba jugar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viejos no corrian como los ninos para j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jueg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8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ninos jugaban can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allina cie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las escond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escubridores de los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s descubridores eran ni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gunos eran adul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ǾLos descubridores ganaban prem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ros tipos de juego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ujeres tenian un juego que era un concurso de pin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ujeres tenian juegos de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ujeres podian jugar con los homb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os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a un juego de pelo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n con caba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an  juegos sangri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265248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adeadores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igenes ro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ueg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limpicos de roma anti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ikispase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DI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o construyo un esplendido teatro a la memoria de su sobrino que  fue un gran glade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ladeadores mas valientes se comvertian en heroes popu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s gladeadores que ganaban se les daba una corona de Laur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pesar do oscar, não foi gordo o bastante segundo os cientis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343400"/>
            <a:ext cx="19051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a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maratones corrian como 100 k.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que corrían en los maratones corrían descal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s ganadores  se les daban  comida para toda su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343400" y="388620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to l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oncursantes del salto largo  utilisaban  piedras an las manos para sal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ganadores heran r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 de salto largo tenia que aces ejercicio  para cargar las  rr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eras de rreleb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00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rreras de rrelebos heran muy rrapida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rreras de rrelebos heran muy desespe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rreras de rrelebos todavia ex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jim"/>
          <p:cNvPicPr/>
          <p:nvPr/>
        </p:nvPicPr>
        <p:blipFill>
          <a:blip r:embed="rId1"/>
          <a:stretch/>
        </p:blipFill>
        <p:spPr>
          <a:xfrm>
            <a:off x="1828800" y="4191120"/>
            <a:ext cx="346716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rtes Rom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cc00">
                  <a:alpha val="96078"/>
                </a:srgbClr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deportes romanos heran brus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Romanos tenian muchos depo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y ben día ay deportes Ro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egos de los niñ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 juegos romanos son muy biejo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 NINOS ROMANOS LES GUSTABAN LOS JUE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 ROMANOS TIENEN MUCHOS JUEG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EGOS DE ADUL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de adultos eran brus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de los adultos eran dibert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de los adultos  no eran para los biejo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juegos de los anci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juegos de los ancianos eran como el ajed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juegos de los ancianos todavia ex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  <p:sndAc>
      <p:stSnd>
        <p:snd r:embed="rId1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4:48:51Z</dcterms:created>
  <dc:creator>School District U46</dc:creator>
  <dc:description/>
  <dc:language>en-US</dc:language>
  <cp:lastModifiedBy>School District U46</cp:lastModifiedBy>
  <dcterms:modified xsi:type="dcterms:W3CDTF">2009-03-18T19:27:36Z</dcterms:modified>
  <cp:revision>22</cp:revision>
  <dc:subject/>
  <dc:title>Slide 1</dc:title>
</cp:coreProperties>
</file>